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9C1-F39A-4DFA-96E1-6E4433F3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683-BD11-493C-BAAD-7A8E0E2A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9B8-6739-47E2-AEDC-53297D40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64B-8A3C-4472-B0B7-3BBD780C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CE6-9B8A-4179-8738-BBCD2599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C00-1EE5-4E6C-8A1F-C0303688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717-4DCB-4B80-AA9C-7C80EC44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E46-26F8-45CD-8D73-5EC581C0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678-251C-44ED-904B-21FE13E7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D5A-4A80-44AF-AF1A-5D929A7E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1D5-ABB7-4236-9241-6474C08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917-0E94-4D28-8071-D7DF569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0456-5C1C-4103-871D-E3A4B363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6529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49400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94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581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2933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93544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on to be 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77328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773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22147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214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04-24T17:36:33Z</dcterms:modified>
  <cp:revision>47</cp:revision>
  <dc:subject/>
  <dc:title>Présentation PowerPoint</dc:title>
</cp:coreProperties>
</file>