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F234-78FE-4A2A-A814-DE3D56B48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63B7-ECA6-4180-BB83-4F4284CA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4D0C-3686-4D31-8134-B2F1F7B25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CECD-8267-4B1A-B791-1A7E51456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058D-3BC9-4B64-88BB-6BAB097D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0B58-7B77-4F05-9B2F-3D6DA7E2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5314-B2AB-498E-BE5D-07DE9F0F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1166-870B-4B81-81DE-73C770F0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1638-E2DB-44DD-B86E-C4E76ED9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2F34-4F0D-42AF-A671-EA7AFE65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1F17-A274-4F41-81B2-1FFC1782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A5E2-415E-4D6B-BA53-85DBCC6A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33F6-858C-4E4D-A066-7BE161F71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457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600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600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9-25T14:20:40Z</dcterms:modified>
  <cp:revision>5</cp:revision>
  <dc:subject/>
  <dc:title>Présentation PowerPoint</dc:title>
</cp:coreProperties>
</file>