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601FD-94C9-49A0-BD6C-333761B4F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C370A-D2DD-410E-91F6-5250CD780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14C6A-7269-48B9-B521-A34C7985F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96513-187F-4F37-98BA-3723D1A94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094D2-1073-406A-AA73-1CEB71296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24992-00EC-4EC3-87EB-AA475A6BA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33E09-62C8-43B5-BFB4-85AA8232E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11E2E-9B2B-480D-9DC4-3AAF71AD3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F3D0F-892E-4618-9E88-E8B85CFD9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AB069-F91A-4D1D-9B82-D512267AA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A966D-DE00-4115-83FB-5CB45702D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C8429-17A6-47F8-8541-763936707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05574-5542-4640-9392-4CFBA937FE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838080"/>
            <a:ext cx="13716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letTest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057400" y="838080"/>
            <a:ext cx="13716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66ff"/>
              </a:gs>
              <a:gs pos="100000">
                <a:srgbClr val="e7bb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edir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l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038480" y="838080"/>
            <a:ext cx="13716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letTest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9907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6320" y="45720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04920" y="45720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beginXXX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6320" y="160020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04920" y="160020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XXX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47920" y="68580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9907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81280" y="68580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905120" y="22860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1981080"/>
            <a:ext cx="106704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038480" y="1752480"/>
            <a:ext cx="137160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724280" y="1447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800600" y="147636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3428640" y="1219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581280" y="129528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1447560" y="1219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523880" y="129528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191120" y="1905120"/>
            <a:ext cx="1066680" cy="761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14800" y="1828800"/>
            <a:ext cx="106668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038480" y="38088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267080" y="152280"/>
            <a:ext cx="10670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tUp(),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stXXX(),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arDown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62120" y="243828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ient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905120" y="243828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752480" y="68580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809720" y="129528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5T16:11:12Z</dcterms:created>
  <dc:creator>Vincent Massol</dc:creator>
  <dc:description/>
  <dc:language>en-US</dc:language>
  <cp:lastModifiedBy>Vincent Massol</cp:lastModifiedBy>
  <dcterms:modified xsi:type="dcterms:W3CDTF">2001-03-07T10:17:06Z</dcterms:modified>
  <cp:revision>4</cp:revision>
  <dc:subject/>
  <dc:title>Présentation PowerPoint</dc:title>
</cp:coreProperties>
</file>