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4414-CBAD-4239-89A0-0171C65E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211A-B8D4-43C4-964F-5B40CAC5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FA58-6297-452B-AD85-5CE15713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011C-CDE1-4F4F-8668-BF8E6B0D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AECB-5E10-4D16-BA45-3C7E9B49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759-6DB7-485E-A1FE-C7BD01BE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9745-AF2C-4C96-98A2-CCDC0BFD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7D53-8206-432E-A9D9-4ECF4F5D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8E56-0AF8-439F-B61C-A8DEF560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D363-AF87-41CF-A156-6BEB7717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AF1D-2A29-4ADC-A9E9-F775D94E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E6C5-7DFE-4840-A0F9-5F0DD166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2468-206D-4E77-B115-16D176D51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1981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59092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590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20040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0481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8098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8098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2-04-14T08:58:57Z</dcterms:modified>
  <cp:revision>12</cp:revision>
  <dc:subject/>
  <dc:title>Présentation PowerPoint</dc:title>
</cp:coreProperties>
</file>